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2ABAA-46E5-4D25-B57A-74FE058CE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6FC1B-C2C7-49BA-BC7B-46E624059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1E70A49-3E54-4823-84C3-F67769C5EC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1243E40-C2F8-4A0E-9765-A0F2EE867E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7E8F1BC-A851-4B65-9A05-EAAEFE6003F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6DCF9E8-30A7-45A8-AB00-4E9A75798D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5040E1-147B-4F93-93EE-5021F924E7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CA3B13B-09DD-44D2-BED1-BFEBED6B98B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0962404-3CA3-457B-8A23-79C998EB340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C9EC877-7CA6-41F8-9707-805739FAD37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E49F5EE-D216-4520-8EDC-96E8F23D5F3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48D79AE-4B7B-4872-A36B-A6AEAB4919A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946EC-5109-49B6-8158-9532D36B1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402F64E-7B4D-4F45-83D7-3C060322DDD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D9BDB74-4430-4701-BDC1-0A6CCEA0F06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C5A1B9F-8E06-40D6-B05F-8FAC742E00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18FA48A-9778-4BA4-AA73-AA77C326A0A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0200915-AAD0-4B2D-87E0-FFC99B4498B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1923618-0EB0-4092-89CC-AB42085F6E6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4E1CB0-160D-4FFD-8159-8B5085184BB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048960C-CB58-48C5-AE7B-2486DC9C1EE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EEE428C-ECA9-40C4-BAC0-83C0509AA44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9CD5C87-D816-4D66-8212-7ABE553AE4F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334FF-B370-4C40-B499-64FBE5F8F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0C36894-AD5C-4D59-BBD3-6A2CC81F47C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E29D0DD-4622-4424-8659-13B22E86A78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BB96EE6-A4A5-461E-9846-7282C9FCCEC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BBBC5F2-5A7E-4F23-BA47-57B2C0A494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59BEFA2-4CC0-468C-B6FF-FA9A3E1BFC2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3F85D37-B74E-4120-ACA3-576B9AAAB11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77288BB-0806-4C4E-994B-8518E6BB267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66E0727-4F94-43BB-860F-334C1FE948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73B9FC3-9648-4638-A039-0B0CF88162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583E30-80E8-496F-98DF-1F5CE8F335E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4BBC717-78E1-4EE0-B11B-D8429E60B8D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4EE9E22-13B6-4FE1-8E1A-D61F61B097D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09032F3-FBBC-4BCA-9EBC-69116B7B6FA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E3FBFB2-5871-4A42-BDA6-33BB6E86F1F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02F22FD-65AE-4AB2-B72A-C9E30A9A5D2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EB0D84A-13F2-4442-8919-43BA39D661D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593CB0A-A4E8-4573-BD5C-997559248DE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810A5D4-47A7-4CA6-9C74-8757F3F27D3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9673E6B-0B2C-4AC5-BBA0-8211828F486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DDA2C64-7519-40E6-A23D-897DD39A5CC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F2A0547-8466-449E-808C-06C20DBC7D9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202E6DF-CC25-4C3D-93BE-B72763C6E7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085CB0A-FC64-4AAD-9FEB-83F8B7FA22B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967A8B1-B2DD-41C9-AF3C-ED16E7C9F67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3B12B54-438A-4086-A664-EA079B01015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FD99587-4D4A-44F3-A5C8-15724C4D13F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2D1F651-0913-4855-9A0B-9B55662C9CE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BF6E201-EF0E-4E34-9520-428D2FC63EF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4A29902-EFE1-4108-93FA-ED401835B3C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A193913-2A3F-4B4A-BAA9-629C62E822B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0905F3A-3025-4512-A112-67EFBBC6238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9F2FB40-97C4-4588-99FF-95972EF6712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8CF4FE6-BA34-4539-8234-0A5739DCA08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8B8D9F0-CB6A-4423-AA1D-F0487B0A701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EA4974C-AEFD-453B-9E2E-BD9EF9F3368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613CAC0-7BD8-4320-A30B-B86AC6E9954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173A77D-719D-4623-B45B-161DDF18E39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3ECA5-2F70-4A6D-B18D-97939A9B2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03388E2-9848-4648-A3B4-B4703EBE660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3AC47F-E281-4466-82D2-F2C3E932D8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3792FC-32CA-459E-9EEE-4456F3E6FA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8CA224-71CC-4802-B9BD-A2B685983B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04BD89-F61E-4568-B75B-932E433C4A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5F57A-CF99-4DAD-8462-42FF643A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1FC308-AB41-4FAB-80D2-74441AFC6B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9404A6-72D5-4634-BEE0-DC67B88AAF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FC98D8-18BF-457C-A814-0BF42A1706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3AB158-A1D4-482D-AFD0-E3C814D830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59181A-DAA9-4FA2-8958-AF81ECBECB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0F4583-3910-4D18-BC1B-DA23C0D5F03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EB67625-63BE-4C97-994C-17981B27996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E07DC9-8C87-4002-9469-42BBD996CB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C7E745-DE5E-45DD-BD46-B4602E3748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62D082-C784-4A3A-B7C5-E869ABD185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9684A-5415-4B26-8B3F-C565571F6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03FDDE-0AED-4EFF-ACEE-8D971DA185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F1E6F8-B0B1-4747-A5F1-C2D4E47C69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49E745-DD76-437C-94AE-35EB0F43E0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C08BA5-B9BD-4356-BAAC-F9360EF2CC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0E4A7C-C986-4FB2-B089-5E2276F577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E4B742-7459-48B5-B25F-AAA590608B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F6414C-FAA2-438E-BCC0-A599070F8F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4A47683-FDCB-4F3C-BA79-C9942D93A6F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05EC70-375B-48DD-B327-8D314832EE0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1F5DFD9-908B-4B65-8E54-969E186F829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07050-2933-4A8E-A7E4-7AC76BCCD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1C5FF4F-222D-472E-9D4F-5AF01A446FF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ADDFE46-AEF0-46D5-A112-CA82A531A7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987673E-A7DE-454C-B24F-3D92A3F7E89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08AD1A3-384E-42F8-822D-80E1F6C717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CEC49E-FAE5-4E51-8398-3C5FB68D8DE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0145250-2921-4AFA-B4F1-D949E39BC6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5043B5-22EE-449E-B879-34F0F5A292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F01AC8-49E9-4A2F-9A11-4B569DEA80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616480-D782-4394-A774-A7A51B7F3F9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6344F2C-B7CE-4F3D-9A87-88B6B9F4663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74FB0-259E-41EA-A7FE-7AD9F162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5FB5848-1FD9-41A2-B83E-304DEC9EF52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502F37B-7FAE-4393-9912-A4A2D0890E2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A1D10E-0599-42A9-BB8A-1B0208CB229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427042-49CD-473D-8E14-9C908F4B875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7D38E76-C998-477B-ADD4-52946A0C47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968719A-DF35-4E96-A9C5-BCECFB2A983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D1CD228-07C4-42B0-AF7E-B825FBD524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0BE280-F675-4616-98FE-CCBAA4C5BF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E8CDF27-5860-489C-9342-8F30835B6B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95C6AC-E873-445D-8156-3BC4FE82B7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CA3D0-8915-4DC3-AA0E-71CA905D4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52AA871-4EB5-4743-B5C9-3FC29D7E94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4CAAD39-EC91-4347-8C8B-E7D5160B26C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7739B9B-1150-4BC4-BDC2-62B47D55E51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E9CA95E-35E6-4659-8633-1BE309A3D27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1F494ED-9D7F-4C65-87ED-79AB014965D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4159339-F6BE-45AC-AFA6-6EE469BCFE0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5513499-4F36-41E5-A955-A9893F301AD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AC27059-94BD-4A97-BDFB-FB09F10DF96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5B20A25-4109-47AF-903A-FEE7510BCC9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342F8F-116E-4F9C-AA67-8966B7B36E2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9A4AC-9A1C-4C04-8EBE-23A405E82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2C2E963-2837-4AEE-9775-5E5F4FA9769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C270850-9BE5-4879-9CD9-B1FC2EE59A5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BC5D65-FCFD-4BCA-9135-3EE6635CB1B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6258FD4-169F-4743-829B-2205F6E925C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8987AAB-12D0-48CB-BDBC-A30E00DBA82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3E4806B-A186-481F-8E2D-A7FB6C3784A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6B13BE4-7279-47EC-A3F5-40F3949C41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0CD116A-87AB-481B-AF74-58A46040C6A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627A74-4ABD-4021-9DA8-A399A7EDFE2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FF429AA-16ED-43B6-83E7-9CE58D7BB5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0E969-7921-4361-8B17-0AF2C6220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2BEED15-0740-4EA7-A30B-199375D6D8A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CA7C1E-AA5F-48F6-ABED-6988600AE8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4A02C1-1C73-4A85-9844-12C88F0733C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EACC45-D261-491F-AAE1-81DB45940F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CF9DDE-0FA7-49CE-B2F9-C1E3C299D8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AF6557A-2724-4FE2-A1A9-84222B208AC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098232C-A342-4731-B3FF-3D73C9248E0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CE5E4F8-F144-494F-90BA-D7D01DCACF7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461D9EA-40E5-413D-A7E8-AD6FA1BB6BA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21DCEE4-9668-4433-AF1A-03E22ED48B9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8814D-EBB1-4C61-A850-F437E32C887B}"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B9D03-20FA-4588-89FD-2F84FE8BB9C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2D99F-D30E-4F25-BB0D-75108BDE0A23}"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7E57C-B128-4580-81D2-A5CE6AE89942}"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6D61A-705A-4186-AAF6-D998E3A07A7B}"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DBBF3-BF6A-4D1A-B37F-C243B8F630C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B9660-35A4-4CC4-B880-DA0884CA59C8}"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D7E20-0C99-4B2F-A573-F0D85DA9E3C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290C0-A9D6-46A5-9EB7-ADB19C4FE1A5}"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61E2D-AE34-4BF4-A83D-A9B5AC7078E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2AFCD-1A70-4D5F-9AC4-13819B82779F}"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03480-1DC8-4796-93A5-514ADA2A5D68}"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E8276-D724-45B5-BEF9-C4E314A07F5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D068A-EE44-4814-8BC8-5F9FA71E45FA}"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75C65-D7BA-4FB8-9EC5-9A0541EAD97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31411-9F0A-4782-B9C2-1BAFF90F7ECD}"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85478-220B-43A0-947B-FC9785D6AB2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252EC-8361-437F-9DBD-0151E6B2C4B6}"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A88B5-9E32-44DA-BB38-E02E24610CB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E4A97-8AEA-4F66-B209-892B6F3F7ADB}"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B8D24-AEE3-43B5-AAE3-51DADBF58B2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A5A2E-BAA4-4C90-BF0A-B7EF080669CA}"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07C78-1A3C-4830-8B65-827F5308856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169B2-EB1A-40BC-8A2E-F6E03C36FD10}" type="datetime">
              <a:rPr b="1" lang="en-US" sz="1200" spc="-1" strike="noStrike">
                <a:solidFill>
                  <a:srgbClr val="7f7f7f"/>
                </a:solidFill>
                <a:latin typeface="Times New Roman"/>
              </a:rPr>
              <a:t>07/30/26</a:t>
            </a:fld>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A06BF-3DE3-4C00-A0A7-89B3D20137D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Title 1" descr=""/>
          <p:cNvPicPr/>
          <p:nvPr/>
        </p:nvPicPr>
        <p:blipFill>
          <a:blip r:embed="rId2"/>
          <a:stretch/>
        </p:blipFill>
        <p:spPr>
          <a:xfrm>
            <a:off x="1365120" y="1328760"/>
            <a:ext cx="7096320" cy="2365200"/>
          </a:xfrm>
          <a:prstGeom prst="rect">
            <a:avLst/>
          </a:prstGeom>
          <a:ln w="0">
            <a:noFill/>
          </a:ln>
        </p:spPr>
      </p:pic>
      <p:pic>
        <p:nvPicPr>
          <p:cNvPr id="545" name="Subtitle 2" descr=""/>
          <p:cNvPicPr/>
          <p:nvPr/>
        </p:nvPicPr>
        <p:blipFill>
          <a:blip r:embed="rId3"/>
          <a:stretch/>
        </p:blipFill>
        <p:spPr>
          <a:xfrm>
            <a:off x="1365120" y="3657600"/>
            <a:ext cx="7096320" cy="17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cy Review: Pro Teacher</a:t>
            </a:r>
            <a:endParaRPr b="1" lang="en-US" sz="4800" spc="-1" strike="noStrike">
              <a:solidFill>
                <a:srgbClr val="404040"/>
              </a:solidFill>
              <a:latin typeface="Candara"/>
            </a:endParaRPr>
          </a:p>
        </p:txBody>
      </p:sp>
      <p:sp>
        <p:nvSpPr>
          <p:cNvPr id="563" name=""/>
          <p:cNvSpPr txBox="1"/>
          <p:nvPr/>
        </p:nvSpPr>
        <p:spPr>
          <a:xfrm>
            <a:off x="1088640" y="1801800"/>
            <a:ext cx="7272360" cy="4324320"/>
          </a:xfrm>
          <a:prstGeom prst="rect">
            <a:avLst/>
          </a:prstGeom>
          <a:noFill/>
          <a:ln w="0">
            <a:noFill/>
          </a:ln>
        </p:spPr>
        <p:txBody>
          <a:bodyPr anchor="t">
            <a:normAutofit fontScale="96000"/>
          </a:bodyPr>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It is important for pre-service teachers to have an extensive knowledge base about books representing a variety of cultures because this will help students critically analyze their cultural, social, and political worlds.  This results in the understanding of more than one cultural perspective in the minority group (Barksdale, Yoon).</a:t>
            </a:r>
            <a:endParaRPr b="0" lang="en-US" sz="15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Culturally responsive teachers are sensitive to the challenges that some of their students face and at the same time see the strengths that students from other cultures bring to the classroom. The culturally relevant teaching strategies have the potential to challenge students academically and intellectually while treating them with respect and dignity (May, 2011; Modla &amp; Wake). </a:t>
            </a:r>
            <a:endParaRPr b="0" lang="en-US" sz="15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Learning to teach is a complex undertaking, but the challenges and tensions are points for growth and learning. Teachers who understand culture, who are familiar with the functions of culture, and who are aware of the dimension of culture are less likely to experience cultural conflict with their students and have the potential to dramatically influence multicultural education for literacy (Modla &amp; Wake; Randencich, 1998; Thomas &amp; Vanderhaar, 2008).</a:t>
            </a:r>
            <a:endParaRPr b="0" lang="en-US" sz="15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cy Review: Con Teacher</a:t>
            </a:r>
            <a:endParaRPr b="1" lang="en-US" sz="4800" spc="-1" strike="noStrike">
              <a:solidFill>
                <a:srgbClr val="404040"/>
              </a:solidFill>
              <a:latin typeface="Candara"/>
            </a:endParaRPr>
          </a:p>
        </p:txBody>
      </p:sp>
      <p:sp>
        <p:nvSpPr>
          <p:cNvPr id="565" name=""/>
          <p:cNvSpPr txBox="1"/>
          <p:nvPr/>
        </p:nvSpPr>
        <p:spPr>
          <a:xfrm>
            <a:off x="1088640" y="1801800"/>
            <a:ext cx="7272360" cy="4324320"/>
          </a:xfrm>
          <a:prstGeom prst="rect">
            <a:avLst/>
          </a:prstGeom>
          <a:noFill/>
          <a:ln w="0">
            <a:noFill/>
          </a:ln>
        </p:spPr>
        <p:txBody>
          <a:bodyPr anchor="t">
            <a:normAutofit fontScale="96000"/>
          </a:bodyPr>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Teachers’ beliefs about and attitudes towards children who are different from themselves may well affect the teachers ultimate instructional practices and interactions which result in tensions in the classroom (McIntyre, Hulan, &amp; Maher, 2010; Modla &amp; Wake; Thomas &amp; Vanderhaar, 2008).</a:t>
            </a:r>
            <a:endParaRPr b="0" lang="en-US" sz="16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There is a scarcity of teachers willing and able to use multicultural literature, most of the nations teachers are monolingual while their students are increasingly limited- English proficient (Modla &amp;Wake; Randencich, 1998).</a:t>
            </a:r>
            <a:endParaRPr b="0" lang="en-US" sz="16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Pre-service teachers bring little awareness or understanding of discrimination, they must be aware that culture is as fluid and ever changing as students who enter the classroom. Antiquated, ethnocentric curriculum that does not honor this fluidity does not engage the learner in a contemporary and self-significant dialogue, which wakens their identity construction process (Canen, 2003; Modla &amp; Wake; Towell &amp; Similan, 2009).   </a:t>
            </a:r>
            <a:endParaRPr b="0" lang="en-US" sz="16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Hypothesis</a:t>
            </a:r>
            <a:endParaRPr b="1" lang="en-US" sz="4800" spc="-1" strike="noStrike">
              <a:solidFill>
                <a:srgbClr val="404040"/>
              </a:solidFill>
              <a:latin typeface="Candara"/>
            </a:endParaRPr>
          </a:p>
        </p:txBody>
      </p:sp>
      <p:sp>
        <p:nvSpPr>
          <p:cNvPr id="567" name=""/>
          <p:cNvSpPr txBox="1"/>
          <p:nvPr/>
        </p:nvSpPr>
        <p:spPr>
          <a:xfrm>
            <a:off x="1088640" y="1801800"/>
            <a:ext cx="7272360" cy="4324320"/>
          </a:xfrm>
          <a:prstGeom prst="rect">
            <a:avLst/>
          </a:prstGeom>
          <a:noFill/>
          <a:ln w="0">
            <a:noFill/>
          </a:ln>
        </p:spPr>
        <p:txBody>
          <a:bodyPr anchor="t">
            <a:normAutofit/>
          </a:bodyPr>
          <a:p>
            <a:pPr marL="282600" indent="-2826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Hypothesis #1: Integrating multicultural books in the curriculum over a two month period with two second grade classrooms in P.S. X; Brooklyn N.Y., will increase literacy levels by way of running records. </a:t>
            </a:r>
            <a:endParaRPr b="0" lang="en-US" sz="2400" spc="-1" strike="noStrike">
              <a:solidFill>
                <a:srgbClr val="404040"/>
              </a:solidFill>
              <a:latin typeface="Candara"/>
            </a:endParaRPr>
          </a:p>
          <a:p>
            <a:pPr marL="282600" indent="-2826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Hypothesis #2: Integrating multicultural education awareness (services) in teachers over a two month period with two second grade classrooms in P.S. X; Brooklyn N.Y., will increase literacy levels in their students.  </a:t>
            </a:r>
            <a:endParaRPr b="0" lang="en-US" sz="2400" spc="-1" strike="noStrike">
              <a:solidFill>
                <a:srgbClr val="404040"/>
              </a:solidFill>
              <a:latin typeface="Candara"/>
            </a:endParaRPr>
          </a:p>
          <a:p>
            <a:pPr marL="282600" indent="-2826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Suggested Strategies</a:t>
            </a:r>
            <a:endParaRPr b="1" lang="en-US" sz="4800" spc="-1" strike="noStrike">
              <a:solidFill>
                <a:srgbClr val="404040"/>
              </a:solidFill>
              <a:latin typeface="Candara"/>
            </a:endParaRPr>
          </a:p>
        </p:txBody>
      </p:sp>
      <p:sp>
        <p:nvSpPr>
          <p:cNvPr id="569" name=""/>
          <p:cNvSpPr txBox="1"/>
          <p:nvPr/>
        </p:nvSpPr>
        <p:spPr>
          <a:xfrm>
            <a:off x="1088640" y="1801800"/>
            <a:ext cx="7272360" cy="4324320"/>
          </a:xfrm>
          <a:prstGeom prst="rect">
            <a:avLst/>
          </a:prstGeom>
          <a:noFill/>
          <a:ln w="0">
            <a:noFill/>
          </a:ln>
        </p:spPr>
        <p:txBody>
          <a:bodyPr anchor="t">
            <a:normAutofit fontScale="98000"/>
          </a:bodyPr>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Inviting parents to contribute children’s home literacy efforts to their school portfolios may increase levels of literacy.</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Working ingeniously to connect community with further literacy efforts may increase literacy levels.</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In-depth discussions about multicultural books and their messages may increase literacy levels.</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Open mind portrait about different cultural books increases cultural awareness and literacy levels.</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Reading a book in English and then writing an analysis in Spanish helps both languages stay strong.</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Teachers can use students’ experiences as a basis for their writing and for their interactions with quality multicultural literature.</a:t>
            </a:r>
            <a:endParaRPr b="0" lang="en-US" sz="1400" spc="-1" strike="noStrike">
              <a:solidFill>
                <a:srgbClr val="404040"/>
              </a:solidFill>
              <a:latin typeface="Candara"/>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arper &amp; Brand, 2010; Modla &amp; Wake; Randencich, 1998)</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Alternative Strategies</a:t>
            </a:r>
            <a:endParaRPr b="1" lang="en-US" sz="4800" spc="-1" strike="noStrike">
              <a:solidFill>
                <a:srgbClr val="404040"/>
              </a:solidFill>
              <a:latin typeface="Candara"/>
            </a:endParaRPr>
          </a:p>
        </p:txBody>
      </p:sp>
      <p:sp>
        <p:nvSpPr>
          <p:cNvPr id="571" name=""/>
          <p:cNvSpPr txBox="1"/>
          <p:nvPr/>
        </p:nvSpPr>
        <p:spPr>
          <a:xfrm>
            <a:off x="1088640" y="1801800"/>
            <a:ext cx="7272360" cy="4324320"/>
          </a:xfrm>
          <a:prstGeom prst="rect">
            <a:avLst/>
          </a:prstGeom>
          <a:noFill/>
          <a:ln w="0">
            <a:noFill/>
          </a:ln>
        </p:spPr>
        <p:txBody>
          <a:bodyPr anchor="t">
            <a:normAutofit fontScale="98000"/>
          </a:bodyPr>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Songs have messages and stories built into them, about life and different cultutes.</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Taking a look at lyrics is just another form of telling a story.</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Writing poetry or reading different cultural poetry may increase literacy levels.</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Storytelling about their cultures history or similar books in the classroom can bring importance to the child and books.</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Visual Culture and technology is an added benefit to accessing different types of cultural literacies.</a:t>
            </a:r>
            <a:endParaRPr b="0" lang="en-US" sz="1800" spc="-1" strike="noStrike">
              <a:solidFill>
                <a:srgbClr val="404040"/>
              </a:solidFill>
              <a:latin typeface="Candara"/>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Abraham, 2010; Hinton &amp; Berry, 2004; Smolen, Collins, &amp; Still, 2008; St. Amour, 2003;Towell &amp; Siilan, 2009)</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Method</a:t>
            </a:r>
            <a:endParaRPr b="1" lang="en-US" sz="4800" spc="-1" strike="noStrike">
              <a:solidFill>
                <a:srgbClr val="404040"/>
              </a:solidFill>
              <a:latin typeface="Candara"/>
            </a:endParaRPr>
          </a:p>
        </p:txBody>
      </p:sp>
      <p:sp>
        <p:nvSpPr>
          <p:cNvPr id="573"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articipants: In this research paper the participants will be two second grade classes in P.S. X in Brooklyn, NY.</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Instruments: Instruments that will be used are multicultural books, running records and a survey.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75" name=""/>
          <p:cNvSpPr txBox="1"/>
          <p:nvPr/>
        </p:nvSpPr>
        <p:spPr>
          <a:xfrm>
            <a:off x="1088640" y="1801800"/>
            <a:ext cx="7272360" cy="4324320"/>
          </a:xfrm>
          <a:prstGeom prst="rect">
            <a:avLst/>
          </a:prstGeom>
          <a:noFill/>
          <a:ln w="0">
            <a:noFill/>
          </a:ln>
        </p:spPr>
        <p:txBody>
          <a:bodyPr anchor="t">
            <a:normAutofit fontScale="97000"/>
          </a:bodyPr>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Abraham, L. (2000). Visual literacy in a multicultural environment: Integrating aesthetic with critical visual awareness. </a:t>
            </a:r>
            <a:r>
              <a:rPr b="0" i="1" lang="en-US" sz="1700" spc="-1" strike="noStrike">
                <a:solidFill>
                  <a:srgbClr val="404040"/>
                </a:solidFill>
                <a:latin typeface="Candara"/>
              </a:rPr>
              <a:t>Journal of Visual Literacy, Vol. 20</a:t>
            </a:r>
            <a:r>
              <a:rPr b="0" lang="en-US" sz="1700" spc="-1" strike="noStrike">
                <a:solidFill>
                  <a:srgbClr val="404040"/>
                </a:solidFill>
                <a:latin typeface="Candara"/>
              </a:rPr>
              <a:t>, No. 1, pp. 9-18.</a:t>
            </a:r>
            <a:endParaRPr b="0" lang="en-US" sz="1700" spc="-1" strike="noStrike">
              <a:solidFill>
                <a:srgbClr val="404040"/>
              </a:solidFill>
              <a:latin typeface="Candara"/>
            </a:endParaRPr>
          </a:p>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Barksdale, M., Richards, J., Fisher, P., Wuthrick, M., Hammons, J., Grisham, D., &amp; Richmond, H. (2002). Perceptions of preservice elementary teachers on    multicultural issues. </a:t>
            </a:r>
            <a:r>
              <a:rPr b="0" i="1" lang="en-US" sz="1700" spc="-1" strike="noStrike">
                <a:solidFill>
                  <a:srgbClr val="404040"/>
                </a:solidFill>
                <a:latin typeface="Candara"/>
              </a:rPr>
              <a:t>Reading Horizons, 43 </a:t>
            </a:r>
            <a:r>
              <a:rPr b="0" lang="en-US" sz="1700" spc="-1" strike="noStrike">
                <a:solidFill>
                  <a:srgbClr val="404040"/>
                </a:solidFill>
                <a:latin typeface="Candara"/>
              </a:rPr>
              <a:t>(1), 27-48.</a:t>
            </a:r>
            <a:endParaRPr b="0" lang="en-US" sz="1700" spc="-1" strike="noStrike">
              <a:solidFill>
                <a:srgbClr val="404040"/>
              </a:solidFill>
              <a:latin typeface="Candara"/>
            </a:endParaRPr>
          </a:p>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Bruna, K. R. (2007). Finding new words: How I use critical literacy in my multicultural teacher education classroom. </a:t>
            </a:r>
            <a:r>
              <a:rPr b="0" i="1" lang="en-US" sz="1700" spc="-1" strike="noStrike">
                <a:solidFill>
                  <a:srgbClr val="404040"/>
                </a:solidFill>
                <a:latin typeface="Candara"/>
              </a:rPr>
              <a:t>Journal of education for Teaching, Vol. 33</a:t>
            </a:r>
            <a:r>
              <a:rPr b="0" lang="en-US" sz="1700" spc="-1" strike="noStrike">
                <a:solidFill>
                  <a:srgbClr val="404040"/>
                </a:solidFill>
                <a:latin typeface="Candara"/>
              </a:rPr>
              <a:t>, No. 1, pp. 115-118.</a:t>
            </a:r>
            <a:endParaRPr b="0" lang="en-US" sz="1700" spc="-1" strike="noStrike">
              <a:solidFill>
                <a:srgbClr val="404040"/>
              </a:solidFill>
              <a:latin typeface="Candara"/>
            </a:endParaRPr>
          </a:p>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Canen, A. (2003). Child education and literacy learning for multicultural  societies: The case of the Brazilian national curricular references for child education (NCRs). </a:t>
            </a:r>
            <a:r>
              <a:rPr b="0" i="1" lang="en-US" sz="1700" spc="-1" strike="noStrike">
                <a:solidFill>
                  <a:srgbClr val="404040"/>
                </a:solidFill>
                <a:latin typeface="Candara"/>
              </a:rPr>
              <a:t>Compare Vol. 33</a:t>
            </a:r>
            <a:r>
              <a:rPr b="0" lang="en-US" sz="1700" spc="-1" strike="noStrike">
                <a:solidFill>
                  <a:srgbClr val="404040"/>
                </a:solidFill>
                <a:latin typeface="Candara"/>
              </a:rPr>
              <a:t>, No. 2.</a:t>
            </a:r>
            <a:endParaRPr b="0" lang="en-US" sz="1700" spc="-1" strike="noStrike">
              <a:solidFill>
                <a:srgbClr val="404040"/>
              </a:solidFill>
              <a:latin typeface="Candara"/>
            </a:endParaRPr>
          </a:p>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Dooley, C. M. (2008). Multicultural literacy teacher education: Seeking micro-transformations. </a:t>
            </a:r>
            <a:r>
              <a:rPr b="0" i="1" lang="en-US" sz="1700" spc="-1" strike="noStrike">
                <a:solidFill>
                  <a:srgbClr val="404040"/>
                </a:solidFill>
                <a:latin typeface="Candara"/>
              </a:rPr>
              <a:t>Literacy Research and Instruction, 47</a:t>
            </a:r>
            <a:r>
              <a:rPr b="0" lang="en-US" sz="1700" spc="-1" strike="noStrike">
                <a:solidFill>
                  <a:srgbClr val="404040"/>
                </a:solidFill>
                <a:latin typeface="Candara"/>
              </a:rPr>
              <a:t>: 55-75.</a:t>
            </a:r>
            <a:endParaRPr b="0" lang="en-US" sz="17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 Continued….</a:t>
            </a:r>
            <a:endParaRPr b="1" lang="en-US" sz="4800" spc="-1" strike="noStrike">
              <a:solidFill>
                <a:srgbClr val="404040"/>
              </a:solidFill>
              <a:latin typeface="Candara"/>
            </a:endParaRPr>
          </a:p>
        </p:txBody>
      </p:sp>
      <p:sp>
        <p:nvSpPr>
          <p:cNvPr id="577" name=""/>
          <p:cNvSpPr txBox="1"/>
          <p:nvPr/>
        </p:nvSpPr>
        <p:spPr>
          <a:xfrm>
            <a:off x="1088640" y="1801800"/>
            <a:ext cx="7272360" cy="4324320"/>
          </a:xfrm>
          <a:prstGeom prst="rect">
            <a:avLst/>
          </a:prstGeom>
          <a:noFill/>
          <a:ln w="0">
            <a:noFill/>
          </a:ln>
        </p:spPr>
        <p:txBody>
          <a:bodyPr anchor="t">
            <a:normAutofit/>
          </a:bodyPr>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Eldering, L. (1996). Multiculturalism and multicultural education in an international  perspective. </a:t>
            </a:r>
            <a:r>
              <a:rPr b="0" i="1" lang="en-US" sz="1700" spc="-1" strike="noStrike">
                <a:solidFill>
                  <a:srgbClr val="404040"/>
                </a:solidFill>
                <a:latin typeface="Candara"/>
              </a:rPr>
              <a:t>Anthropology &amp; Education Quarterly, Vol. 27</a:t>
            </a:r>
            <a:r>
              <a:rPr b="0" lang="en-US" sz="1700" spc="-1" strike="noStrike">
                <a:solidFill>
                  <a:srgbClr val="404040"/>
                </a:solidFill>
                <a:latin typeface="Candara"/>
              </a:rPr>
              <a:t>, No. 3, pp. 315-330.</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Ernst, S.B., &amp; Mathis, J.B. (2007). Multicultural literature: Reading within a “new” literacy context. </a:t>
            </a:r>
            <a:r>
              <a:rPr b="0" i="1" lang="en-US" sz="1700" spc="-1" strike="noStrike">
                <a:solidFill>
                  <a:srgbClr val="404040"/>
                </a:solidFill>
                <a:latin typeface="Candara"/>
              </a:rPr>
              <a:t>Journal of children’s literature, Vol. 34</a:t>
            </a:r>
            <a:r>
              <a:rPr b="0" lang="en-US" sz="1700" spc="-1" strike="noStrike">
                <a:solidFill>
                  <a:srgbClr val="404040"/>
                </a:solidFill>
                <a:latin typeface="Candara"/>
              </a:rPr>
              <a:t>, No. 1.</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Gibson, M. A. (1984). Approaches to multicultural education in the United States: Some concepts and assumptions. </a:t>
            </a:r>
            <a:r>
              <a:rPr b="0" i="1" lang="en-US" sz="1700" spc="-1" strike="noStrike">
                <a:solidFill>
                  <a:srgbClr val="404040"/>
                </a:solidFill>
                <a:latin typeface="Candara"/>
              </a:rPr>
              <a:t>Anthropology &amp; Education Quarterly, Vol. 15</a:t>
            </a:r>
            <a:r>
              <a:rPr b="0" lang="en-US" sz="1700" spc="-1" strike="noStrike">
                <a:solidFill>
                  <a:srgbClr val="404040"/>
                </a:solidFill>
                <a:latin typeface="Candara"/>
              </a:rPr>
              <a:t>, No. 1, pp. 94-120.</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arper L. J., &amp; Brand S. T. (2010). More alike than different: Promoting respect through multicultural books and literacy strategies. </a:t>
            </a:r>
            <a:r>
              <a:rPr b="0" i="1" lang="en-US" sz="1700" spc="-1" strike="noStrike">
                <a:solidFill>
                  <a:srgbClr val="404040"/>
                </a:solidFill>
                <a:latin typeface="Candara"/>
              </a:rPr>
              <a:t>Childhood Education; 86</a:t>
            </a:r>
            <a:r>
              <a:rPr b="0" lang="en-US" sz="1700" spc="-1" strike="noStrike">
                <a:solidFill>
                  <a:srgbClr val="404040"/>
                </a:solidFill>
                <a:latin typeface="Candara"/>
              </a:rPr>
              <a:t>,4; pp.224-233.</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arris, Joyce L. (2003). Toward an understanding of literacy issues in multicultural school-age populations. </a:t>
            </a:r>
            <a:r>
              <a:rPr b="0" i="1" lang="en-US" sz="1700" spc="-1" strike="noStrike">
                <a:solidFill>
                  <a:srgbClr val="404040"/>
                </a:solidFill>
                <a:latin typeface="Candara"/>
              </a:rPr>
              <a:t>American speech-language-hearing association, Vol. 34,</a:t>
            </a:r>
            <a:r>
              <a:rPr b="0" lang="en-US" sz="1700" spc="-1" strike="noStrike">
                <a:solidFill>
                  <a:srgbClr val="404040"/>
                </a:solidFill>
                <a:latin typeface="Candara"/>
              </a:rPr>
              <a:t> 80-82. </a:t>
            </a:r>
            <a:endParaRPr b="0" lang="en-US" sz="17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rences Continued</a:t>
            </a:r>
            <a:endParaRPr b="1" lang="en-US" sz="4800" spc="-1" strike="noStrike">
              <a:solidFill>
                <a:srgbClr val="404040"/>
              </a:solidFill>
              <a:latin typeface="Candara"/>
            </a:endParaRPr>
          </a:p>
        </p:txBody>
      </p:sp>
      <p:sp>
        <p:nvSpPr>
          <p:cNvPr id="579" name=""/>
          <p:cNvSpPr txBox="1"/>
          <p:nvPr/>
        </p:nvSpPr>
        <p:spPr>
          <a:xfrm>
            <a:off x="1088640" y="1801800"/>
            <a:ext cx="7272360" cy="4324320"/>
          </a:xfrm>
          <a:prstGeom prst="rect">
            <a:avLst/>
          </a:prstGeom>
          <a:noFill/>
          <a:ln w="0">
            <a:noFill/>
          </a:ln>
        </p:spPr>
        <p:txBody>
          <a:bodyPr anchor="t">
            <a:normAutofit/>
          </a:bodyPr>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ayden, R., Anderson, J., &amp; Gunderson, L. (1997). Literacy learning outside the  classroom: Literacy learning from a multicultural perspective. </a:t>
            </a:r>
            <a:r>
              <a:rPr b="0" i="1" lang="en-US" sz="1700" spc="-1" strike="noStrike">
                <a:solidFill>
                  <a:srgbClr val="404040"/>
                </a:solidFill>
                <a:latin typeface="Candara"/>
              </a:rPr>
              <a:t>The Reading Teacher, Vol. 50</a:t>
            </a:r>
            <a:r>
              <a:rPr b="0" lang="en-US" sz="1700" spc="-1" strike="noStrike">
                <a:solidFill>
                  <a:srgbClr val="404040"/>
                </a:solidFill>
                <a:latin typeface="Candara"/>
              </a:rPr>
              <a:t>, No. 6, pp. 514-516.</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inton, K.V., &amp; Berry, T. (2004). Literacy, literature, and diversity. </a:t>
            </a:r>
            <a:r>
              <a:rPr b="0" i="1" lang="en-US" sz="1700" spc="-1" strike="noStrike">
                <a:solidFill>
                  <a:srgbClr val="404040"/>
                </a:solidFill>
                <a:latin typeface="Candara"/>
              </a:rPr>
              <a:t>Journal of Adolescents and Adult Literacy</a:t>
            </a:r>
            <a:r>
              <a:rPr b="0" lang="en-US" sz="1700" spc="-1" strike="noStrike">
                <a:solidFill>
                  <a:srgbClr val="404040"/>
                </a:solidFill>
                <a:latin typeface="Candara"/>
              </a:rPr>
              <a:t>, pp. 284-288.</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irsch, E.D., JR. (1988). Cultural literacy: What every American needs to know. Vintage Books. A Division of Random House, New York.  </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Lim, B. (2004). Aesthetic discourses in early childhood settings: Dewey, Steiner, and Vygotsky. </a:t>
            </a:r>
            <a:r>
              <a:rPr b="0" i="1" lang="en-US" sz="1700" spc="-1" strike="noStrike">
                <a:solidFill>
                  <a:srgbClr val="404040"/>
                </a:solidFill>
                <a:latin typeface="Candara"/>
              </a:rPr>
              <a:t>Early Childhood Development and Care, Vol. 174</a:t>
            </a:r>
            <a:r>
              <a:rPr b="0" lang="en-US" sz="1700" spc="-1" strike="noStrike">
                <a:solidFill>
                  <a:srgbClr val="404040"/>
                </a:solidFill>
                <a:latin typeface="Candara"/>
              </a:rPr>
              <a:t>(5), pp. 473-486. </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Locke, T., &amp; Cleary, A. (2011). Critical literacy as an approach to literary study in the multicultural, high school classroom. </a:t>
            </a:r>
            <a:r>
              <a:rPr b="0" i="1" lang="en-US" sz="1700" spc="-1" strike="noStrike">
                <a:solidFill>
                  <a:srgbClr val="404040"/>
                </a:solidFill>
                <a:latin typeface="Candara"/>
              </a:rPr>
              <a:t>English Practice: Practice and Critique. Vol. 10 </a:t>
            </a:r>
            <a:r>
              <a:rPr b="0" lang="en-US" sz="1700" spc="-1" strike="noStrike">
                <a:solidFill>
                  <a:srgbClr val="404040"/>
                </a:solidFill>
                <a:latin typeface="Candara"/>
              </a:rPr>
              <a:t>(1), pp. 119-139. </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 Continued</a:t>
            </a:r>
            <a:endParaRPr b="1" lang="en-US" sz="4800" spc="-1" strike="noStrike">
              <a:solidFill>
                <a:srgbClr val="404040"/>
              </a:solidFill>
              <a:latin typeface="Candara"/>
            </a:endParaRPr>
          </a:p>
        </p:txBody>
      </p:sp>
      <p:sp>
        <p:nvSpPr>
          <p:cNvPr id="581" name=""/>
          <p:cNvSpPr txBox="1"/>
          <p:nvPr/>
        </p:nvSpPr>
        <p:spPr>
          <a:xfrm>
            <a:off x="1088640" y="1801800"/>
            <a:ext cx="7272360" cy="4324320"/>
          </a:xfrm>
          <a:prstGeom prst="rect">
            <a:avLst/>
          </a:prstGeom>
          <a:noFill/>
          <a:ln w="0">
            <a:noFill/>
          </a:ln>
        </p:spPr>
        <p:txBody>
          <a:bodyPr anchor="t">
            <a:normAutofit fontScale="96000"/>
          </a:bodyPr>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May, L. A. (2011). Situating Strategies: An examination of comprehension strategy instruction in one upper elementary classroom oriented toward culturally relevant teaching. </a:t>
            </a:r>
            <a:r>
              <a:rPr b="0" i="1" lang="en-US" sz="1700" spc="-1" strike="noStrike">
                <a:solidFill>
                  <a:srgbClr val="404040"/>
                </a:solidFill>
                <a:latin typeface="Candara"/>
              </a:rPr>
              <a:t>Literacy Research and Instruction, 50</a:t>
            </a:r>
            <a:r>
              <a:rPr b="0" lang="en-US" sz="1700" spc="-1" strike="noStrike">
                <a:solidFill>
                  <a:srgbClr val="404040"/>
                </a:solidFill>
                <a:latin typeface="Candara"/>
              </a:rPr>
              <a:t>: pp. 31-43.</a:t>
            </a:r>
            <a:endParaRPr b="0" lang="en-US" sz="1700" spc="-1" strike="noStrike">
              <a:solidFill>
                <a:srgbClr val="404040"/>
              </a:solidFill>
              <a:latin typeface="Candara"/>
            </a:endParaRPr>
          </a:p>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McIntyre, E., Hulan, N., &amp; Maher, M. (2010). The relationship between literacy learning and cultural differences: A study of teachers disposition. </a:t>
            </a:r>
            <a:r>
              <a:rPr b="0" i="1" lang="en-US" sz="1700" spc="-1" strike="noStrike">
                <a:solidFill>
                  <a:srgbClr val="404040"/>
                </a:solidFill>
                <a:latin typeface="Candara"/>
              </a:rPr>
              <a:t>Journal of Reading Education, Vol. 35</a:t>
            </a:r>
            <a:r>
              <a:rPr b="0" lang="en-US" sz="1700" spc="-1" strike="noStrike">
                <a:solidFill>
                  <a:srgbClr val="404040"/>
                </a:solidFill>
                <a:latin typeface="Candara"/>
              </a:rPr>
              <a:t> (3), p. 19-25. </a:t>
            </a:r>
            <a:endParaRPr b="0" lang="en-US" sz="1700" spc="-1" strike="noStrike">
              <a:solidFill>
                <a:srgbClr val="404040"/>
              </a:solidFill>
              <a:latin typeface="Candara"/>
            </a:endParaRPr>
          </a:p>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McMunn Dooley, C. (2008). Multicultural literacy teacher education: Seeking micro-transformations. </a:t>
            </a:r>
            <a:r>
              <a:rPr b="0" i="1" lang="en-US" sz="1700" spc="-1" strike="noStrike">
                <a:solidFill>
                  <a:srgbClr val="404040"/>
                </a:solidFill>
                <a:latin typeface="Candara"/>
              </a:rPr>
              <a:t>Literacy Research and Instruction, 47</a:t>
            </a:r>
            <a:r>
              <a:rPr b="0" lang="en-US" sz="1700" spc="-1" strike="noStrike">
                <a:solidFill>
                  <a:srgbClr val="404040"/>
                </a:solidFill>
                <a:latin typeface="Candara"/>
              </a:rPr>
              <a:t>: 55-75.</a:t>
            </a:r>
            <a:endParaRPr b="0" lang="en-US" sz="1700" spc="-1" strike="noStrike">
              <a:solidFill>
                <a:srgbClr val="404040"/>
              </a:solidFill>
              <a:latin typeface="Candara"/>
            </a:endParaRPr>
          </a:p>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Modla, v. B., &amp; Wake, D. G.  Using a culturally-responsive approach to multicultural literature: Preparing pre-service teachers to work with all students. </a:t>
            </a:r>
            <a:r>
              <a:rPr b="0" i="1" lang="en-US" sz="1700" spc="-1" strike="noStrike">
                <a:solidFill>
                  <a:srgbClr val="404040"/>
                </a:solidFill>
                <a:latin typeface="Candara"/>
              </a:rPr>
              <a:t>College Reading Association</a:t>
            </a:r>
            <a:r>
              <a:rPr b="0" lang="en-US" sz="1700" spc="-1" strike="noStrike">
                <a:solidFill>
                  <a:srgbClr val="404040"/>
                </a:solidFill>
                <a:latin typeface="Candara"/>
              </a:rPr>
              <a:t>, pp. 293-311.</a:t>
            </a:r>
            <a:endParaRPr b="0" lang="en-US" sz="1700" spc="-1" strike="noStrike">
              <a:solidFill>
                <a:srgbClr val="404040"/>
              </a:solidFill>
              <a:latin typeface="Candara"/>
            </a:endParaRPr>
          </a:p>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Norton, D. E.  (1990). Teaching multicultural literature in the reading curriculum. </a:t>
            </a:r>
            <a:r>
              <a:rPr b="0" i="1" lang="en-US" sz="1700" spc="-1" strike="noStrike">
                <a:solidFill>
                  <a:srgbClr val="404040"/>
                </a:solidFill>
                <a:latin typeface="Candara"/>
              </a:rPr>
              <a:t>International Reading Association, Vol. 44</a:t>
            </a:r>
            <a:r>
              <a:rPr b="0" lang="en-US" sz="1700" spc="-1" strike="noStrike">
                <a:solidFill>
                  <a:srgbClr val="404040"/>
                </a:solidFill>
                <a:latin typeface="Candara"/>
              </a:rPr>
              <a:t>, No. 1, pp. 28-40.</a:t>
            </a:r>
            <a:endParaRPr b="0" lang="en-US" sz="17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able of Contents</a:t>
            </a:r>
            <a:endParaRPr b="1" lang="en-US" sz="4800" spc="-1" strike="noStrike">
              <a:solidFill>
                <a:srgbClr val="404040"/>
              </a:solidFill>
              <a:latin typeface="Candara"/>
            </a:endParaRPr>
          </a:p>
        </p:txBody>
      </p:sp>
      <p:sp>
        <p:nvSpPr>
          <p:cNvPr id="547" name=""/>
          <p:cNvSpPr txBox="1"/>
          <p:nvPr/>
        </p:nvSpPr>
        <p:spPr>
          <a:xfrm>
            <a:off x="1088640" y="1801800"/>
            <a:ext cx="7272360" cy="4324320"/>
          </a:xfrm>
          <a:prstGeom prst="rect">
            <a:avLst/>
          </a:prstGeom>
          <a:noFill/>
          <a:ln w="0">
            <a:noFill/>
          </a:ln>
        </p:spPr>
        <p:txBody>
          <a:bodyPr anchor="t">
            <a:normAutofit fontScale="95000"/>
          </a:bodyPr>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Introduction                                                Slide # 3</a:t>
            </a: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tatement of the Problem                      Slide # 4</a:t>
            </a: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Literature Review                                      Slides 5-10</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eorists                                     Side # 5</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ro Literacy                                Slide # 6-7</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on Literacy                               Slide #  8</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ro teacher                                Slide # 9</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on Teacher                               Slide # 10 </a:t>
            </a: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tatement of Hypothesis                        Slide # 11</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 Continued</a:t>
            </a:r>
            <a:endParaRPr b="1" lang="en-US" sz="4800" spc="-1" strike="noStrike">
              <a:solidFill>
                <a:srgbClr val="404040"/>
              </a:solidFill>
              <a:latin typeface="Candara"/>
            </a:endParaRPr>
          </a:p>
        </p:txBody>
      </p:sp>
      <p:sp>
        <p:nvSpPr>
          <p:cNvPr id="583" name=""/>
          <p:cNvSpPr txBox="1"/>
          <p:nvPr/>
        </p:nvSpPr>
        <p:spPr>
          <a:xfrm>
            <a:off x="1088640" y="1801800"/>
            <a:ext cx="7272360" cy="4324320"/>
          </a:xfrm>
          <a:prstGeom prst="rect">
            <a:avLst/>
          </a:prstGeom>
          <a:noFill/>
          <a:ln w="0">
            <a:noFill/>
          </a:ln>
        </p:spPr>
        <p:txBody>
          <a:bodyPr anchor="t">
            <a:normAutofit/>
          </a:bodyPr>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Randencinch, M. C. (1998). Multicultural education for literacy in the year 2000: Traversing comfort zones and transforming knowledge and action.  </a:t>
            </a:r>
            <a:r>
              <a:rPr b="0" i="1" lang="en-US" sz="2000" spc="-1" strike="noStrike">
                <a:solidFill>
                  <a:srgbClr val="404040"/>
                </a:solidFill>
                <a:latin typeface="Candara"/>
              </a:rPr>
              <a:t>Peabody Journal of Education, 73</a:t>
            </a:r>
            <a:r>
              <a:rPr b="0" lang="en-US" sz="2000" spc="-1" strike="noStrike">
                <a:solidFill>
                  <a:srgbClr val="404040"/>
                </a:solidFill>
                <a:latin typeface="Candara"/>
              </a:rPr>
              <a:t> (3&amp;4), pp. 178-201 </a:t>
            </a:r>
            <a:r>
              <a:rPr b="0" i="1" lang="en-US" sz="2000" spc="-1" strike="noStrike">
                <a:solidFill>
                  <a:srgbClr val="404040"/>
                </a:solidFill>
                <a:latin typeface="Candara"/>
              </a:rPr>
              <a:t>Literacy Research and Instruction, 47</a:t>
            </a:r>
            <a:r>
              <a:rPr b="0" lang="en-US" sz="2000" spc="-1" strike="noStrike">
                <a:solidFill>
                  <a:srgbClr val="404040"/>
                </a:solidFill>
                <a:latin typeface="Candara"/>
              </a:rPr>
              <a:t>: 55-75. </a:t>
            </a:r>
            <a:endParaRPr b="0" lang="en-US" sz="20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Schaedel, B., &amp; Lazarowitz, R., H. (2005/2006). Literacy development in a multicultural city. </a:t>
            </a:r>
            <a:r>
              <a:rPr b="0" i="1" lang="en-US" sz="2000" spc="-1" strike="noStrike">
                <a:solidFill>
                  <a:srgbClr val="404040"/>
                </a:solidFill>
                <a:latin typeface="Candara"/>
              </a:rPr>
              <a:t>International Journal of Learning, Vol. 12</a:t>
            </a:r>
            <a:r>
              <a:rPr b="0" lang="en-US" sz="2000" spc="-1" strike="noStrike">
                <a:solidFill>
                  <a:srgbClr val="404040"/>
                </a:solidFill>
                <a:latin typeface="Candara"/>
              </a:rPr>
              <a:t>, No. 7.</a:t>
            </a:r>
            <a:endParaRPr b="0" lang="en-US" sz="20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 </a:t>
            </a:r>
            <a:r>
              <a:rPr b="0" lang="en-US" sz="2000" spc="-1" strike="noStrike">
                <a:solidFill>
                  <a:srgbClr val="404040"/>
                </a:solidFill>
                <a:latin typeface="Candara"/>
              </a:rPr>
              <a:t>Smolen, L. A., Collins, L, J., &amp; Still, K, L. (2008). Enhancing cultural understanding and respect with multicultural text sets in the K-8 classroom. </a:t>
            </a:r>
            <a:r>
              <a:rPr b="0" i="1" lang="en-US" sz="2000" spc="-1" strike="noStrike">
                <a:solidFill>
                  <a:srgbClr val="404040"/>
                </a:solidFill>
                <a:latin typeface="Candara"/>
              </a:rPr>
              <a:t>Ojela, Vol. 48,</a:t>
            </a:r>
            <a:r>
              <a:rPr b="0" lang="en-US" sz="2000" spc="-1" strike="noStrike">
                <a:solidFill>
                  <a:srgbClr val="404040"/>
                </a:solidFill>
                <a:latin typeface="Candara"/>
              </a:rPr>
              <a:t> No. 2. </a:t>
            </a:r>
            <a:endParaRPr b="0" lang="en-US" sz="20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St. Amour, M. J. (2003). Connecting children’s stories to children’s literature: Meeting diversity needs. </a:t>
            </a:r>
            <a:r>
              <a:rPr b="0" i="1" lang="en-US" sz="2000" spc="-1" strike="noStrike">
                <a:solidFill>
                  <a:srgbClr val="404040"/>
                </a:solidFill>
                <a:latin typeface="Candara"/>
              </a:rPr>
              <a:t>Early childhood journal, Vol. 31</a:t>
            </a:r>
            <a:r>
              <a:rPr b="0" lang="en-US" sz="2000" spc="-1" strike="noStrike">
                <a:solidFill>
                  <a:srgbClr val="404040"/>
                </a:solidFill>
                <a:latin typeface="Candara"/>
              </a:rPr>
              <a:t>, No.1. </a:t>
            </a: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 Continued</a:t>
            </a:r>
            <a:endParaRPr b="1" lang="en-US" sz="4800" spc="-1" strike="noStrike">
              <a:solidFill>
                <a:srgbClr val="404040"/>
              </a:solidFill>
              <a:latin typeface="Candara"/>
            </a:endParaRPr>
          </a:p>
        </p:txBody>
      </p:sp>
      <p:sp>
        <p:nvSpPr>
          <p:cNvPr id="585" name=""/>
          <p:cNvSpPr txBox="1"/>
          <p:nvPr/>
        </p:nvSpPr>
        <p:spPr>
          <a:xfrm>
            <a:off x="1088640" y="1801800"/>
            <a:ext cx="7272360" cy="4324320"/>
          </a:xfrm>
          <a:prstGeom prst="rect">
            <a:avLst/>
          </a:prstGeom>
          <a:noFill/>
          <a:ln w="0">
            <a:noFill/>
          </a:ln>
        </p:spPr>
        <p:txBody>
          <a:bodyPr anchor="t">
            <a:normAutofit fontScale="95000"/>
          </a:bodyPr>
          <a:p>
            <a:pPr marL="268200" indent="-2682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 </a:t>
            </a:r>
            <a:r>
              <a:rPr b="0" lang="en-US" sz="2400" spc="-1" strike="noStrike">
                <a:solidFill>
                  <a:srgbClr val="404040"/>
                </a:solidFill>
                <a:latin typeface="Candara"/>
              </a:rPr>
              <a:t>Thomas, S., &amp; Vanderhaar. J. (2008). Negotiating resistance to multiculturalism in a teacher education curriculum: A case study. </a:t>
            </a:r>
            <a:r>
              <a:rPr b="0" i="1" lang="en-US" sz="2400" spc="-1" strike="noStrike">
                <a:solidFill>
                  <a:srgbClr val="404040"/>
                </a:solidFill>
                <a:latin typeface="Candara"/>
              </a:rPr>
              <a:t>The Teacher Educator, 43</a:t>
            </a:r>
            <a:r>
              <a:rPr b="0" lang="en-US" sz="2400" spc="-1" strike="noStrike">
                <a:solidFill>
                  <a:srgbClr val="404040"/>
                </a:solidFill>
                <a:latin typeface="Candara"/>
              </a:rPr>
              <a:t>:173-197.</a:t>
            </a:r>
            <a:endParaRPr b="0" lang="en-US" sz="2400" spc="-1" strike="noStrike">
              <a:solidFill>
                <a:srgbClr val="404040"/>
              </a:solidFill>
              <a:latin typeface="Candara"/>
            </a:endParaRPr>
          </a:p>
          <a:p>
            <a:pPr marL="268200" indent="-2682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owell, J., &amp; Similan, C. (2009). Teaching literacy through the visual arts in a multicultural world. </a:t>
            </a:r>
            <a:r>
              <a:rPr b="0" i="1" lang="en-US" sz="2400" spc="-1" strike="noStrike">
                <a:solidFill>
                  <a:srgbClr val="404040"/>
                </a:solidFill>
                <a:latin typeface="Candara"/>
              </a:rPr>
              <a:t>Journal of reading education, Vol. 35,</a:t>
            </a:r>
            <a:r>
              <a:rPr b="0" lang="en-US" sz="2400" spc="-1" strike="noStrike">
                <a:solidFill>
                  <a:srgbClr val="404040"/>
                </a:solidFill>
                <a:latin typeface="Candara"/>
              </a:rPr>
              <a:t> No. 1.</a:t>
            </a:r>
            <a:endParaRPr b="0" lang="en-US" sz="2400" spc="-1" strike="noStrike">
              <a:solidFill>
                <a:srgbClr val="404040"/>
              </a:solidFill>
              <a:latin typeface="Candara"/>
            </a:endParaRPr>
          </a:p>
          <a:p>
            <a:pPr marL="268200" indent="-2682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Yoon, B., Simpson, A., &amp; Haag, C. (2010). Assimilation ideology: Critically examining underlying messages in multicultural literature. </a:t>
            </a:r>
            <a:r>
              <a:rPr b="0" i="1" lang="en-US" sz="2400" spc="-1" strike="noStrike">
                <a:solidFill>
                  <a:srgbClr val="404040"/>
                </a:solidFill>
                <a:latin typeface="Candara"/>
              </a:rPr>
              <a:t>Journal of Adolescents and Adult Literacy, 54(2)</a:t>
            </a:r>
            <a:r>
              <a:rPr b="0" lang="en-US" sz="2400" spc="-1" strike="noStrike">
                <a:solidFill>
                  <a:srgbClr val="404040"/>
                </a:solidFill>
                <a:latin typeface="Candara"/>
              </a:rPr>
              <a:t>, p. 109-118.</a:t>
            </a:r>
            <a:endParaRPr b="0" lang="en-US" sz="2400" spc="-1" strike="noStrike">
              <a:solidFill>
                <a:srgbClr val="404040"/>
              </a:solidFill>
              <a:latin typeface="Candara"/>
            </a:endParaRPr>
          </a:p>
          <a:p>
            <a:pPr marL="268200" indent="-268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Index: Suggested Books</a:t>
            </a:r>
            <a:endParaRPr b="1" lang="en-US" sz="4800" spc="-1" strike="noStrike">
              <a:solidFill>
                <a:srgbClr val="404040"/>
              </a:solidFill>
              <a:latin typeface="Candara"/>
            </a:endParaRPr>
          </a:p>
        </p:txBody>
      </p:sp>
      <p:sp>
        <p:nvSpPr>
          <p:cNvPr id="587"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Cha, D. (1996). Dia’s story cloth. New York: Lee &amp; Low Books. </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Choi, Y. (2003). The name jar. New York: Random House.</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De Varennes, M. (2007). The jewel box ballerinas. New York: Random House.</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Flake, S. (1998). The skin I’m in. New York: Hyperion.</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Johnson, A. (2007). Lily Brown’s paintings. New York: Scholastic.</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Kissinger, K. (1997). All the colors we are. St. Paul, MN: Readleaf Press.</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Katz, K. (1999) The color of us. New York: Henry Holt.</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cKissack, P.C., &amp; Pinkney, J. (2001). Goin’ someplace special. New York: Antheneum Books for Young Readers.</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Index: Suggested Books</a:t>
            </a:r>
            <a:endParaRPr b="1" lang="en-US" sz="4800" spc="-1" strike="noStrike">
              <a:solidFill>
                <a:srgbClr val="404040"/>
              </a:solidFill>
              <a:latin typeface="Candara"/>
            </a:endParaRPr>
          </a:p>
        </p:txBody>
      </p:sp>
      <p:sp>
        <p:nvSpPr>
          <p:cNvPr id="589"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olacco, P. (1992). Mrs. Katz and Tush. New York: Bantam</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Winter J. (2004). The librarian of Basra: A true story from Iraq. Orlando: Harcourt, Inc.</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Woodson, J. (2001). The other side. New York: Penguin.</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Ernst &amp; Mathis, 2007; Harper &amp; Brand, 2010; Randencich, 1998; Smolen, Collins &amp; Still, 2008)</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Parent Permission</a:t>
            </a:r>
            <a:endParaRPr b="1" lang="en-US" sz="4800" spc="-1" strike="noStrike">
              <a:solidFill>
                <a:srgbClr val="404040"/>
              </a:solidFill>
              <a:latin typeface="Candara"/>
            </a:endParaRPr>
          </a:p>
        </p:txBody>
      </p:sp>
      <p:sp>
        <p:nvSpPr>
          <p:cNvPr id="591" name=""/>
          <p:cNvSpPr txBox="1"/>
          <p:nvPr/>
        </p:nvSpPr>
        <p:spPr>
          <a:xfrm>
            <a:off x="1088640" y="1801800"/>
            <a:ext cx="7272360" cy="4324320"/>
          </a:xfrm>
          <a:prstGeom prst="rect">
            <a:avLst/>
          </a:prstGeom>
          <a:noFill/>
          <a:ln w="0">
            <a:noFill/>
          </a:ln>
        </p:spPr>
        <p:txBody>
          <a:bodyPr anchor="t">
            <a:normAutofit fontScale="92000"/>
          </a:bodyPr>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Parents Permission</a:t>
            </a:r>
            <a:endParaRPr b="0" lang="en-US" sz="12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Dear Parents,</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	</a:t>
            </a:r>
            <a:r>
              <a:rPr b="0" lang="en-US" sz="1200" spc="-1" strike="noStrike">
                <a:solidFill>
                  <a:srgbClr val="404040"/>
                </a:solidFill>
                <a:latin typeface="Candara"/>
              </a:rPr>
              <a:t>My name is Ramona Fabian; I am currently completing my master’s degree in education at Brooklyn College and am conducting a study on the effects of multicultural books on students reading level. I am requesting your permission to use your child’s data for my research study. I will be using gathered data from their reading assessments. There will be running records to measure students’ reading levels. </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All results for this study will be reported as a group study therefore, participants’ names and information will be anonymous.</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Thank you for your support!</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Sincerely, Ramona Fabian</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_ I allow my child to be observed in this study.</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04040"/>
                </a:solidFill>
                <a:uFillTx/>
                <a:latin typeface="Candara"/>
              </a:rPr>
              <a:t>_ I do not allow my child to be observed in this study.</a:t>
            </a:r>
            <a:endParaRPr b="0" lang="en-US" sz="12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04040"/>
                </a:solidFill>
                <a:uFillTx/>
                <a:latin typeface="Candara"/>
              </a:rPr>
              <a:t>Parents Signature</a:t>
            </a:r>
            <a:endParaRPr b="0" lang="en-US" sz="1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eacher Permission</a:t>
            </a:r>
            <a:endParaRPr b="1" lang="en-US" sz="4800" spc="-1" strike="noStrike">
              <a:solidFill>
                <a:srgbClr val="404040"/>
              </a:solidFill>
              <a:latin typeface="Candara"/>
            </a:endParaRPr>
          </a:p>
        </p:txBody>
      </p:sp>
      <p:sp>
        <p:nvSpPr>
          <p:cNvPr id="593"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Dear Teachers,</a:t>
            </a:r>
            <a:endParaRPr b="0" lang="en-US" sz="1200" spc="-1" strike="noStrike">
              <a:solidFill>
                <a:srgbClr val="404040"/>
              </a:solidFill>
              <a:latin typeface="Candara"/>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My name is Ramona Fabian and I am a Brooklyn College graduate student. I am completing my Early Action Research Project throughout this school year on the effects of multicultural books on students reading level and the effects of pre-serviced multicultural teachers’ have on said levels. I would greatly appreciate your permission to observe your class in my research by completing multicultural survey for pre-service teachers and allow me to use running records on the students. All information will be kept confidential and anonymous. Please sign and return the bottom portion of this letter stating whether you would or would not like you class to be used in this research. Thank you for your time and consideration.</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Sincerely,</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Ramona Fabian</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_ I allow my class to be observed in this Early Action Research Project</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04040"/>
                </a:solidFill>
                <a:uFillTx/>
                <a:latin typeface="Candara"/>
              </a:rPr>
              <a:t>_ I do not allow my class to be observed in this Early Action Research Project</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04040"/>
                </a:solidFill>
                <a:uFillTx/>
                <a:latin typeface="Candara"/>
              </a:rPr>
              <a:t>Teacher Signature</a:t>
            </a:r>
            <a:r>
              <a:rPr b="0" lang="en-US" sz="1200" spc="-1" strike="noStrike">
                <a:solidFill>
                  <a:srgbClr val="404040"/>
                </a:solidFill>
                <a:latin typeface="Candara"/>
              </a:rPr>
              <a:t> </a:t>
            </a:r>
            <a:endParaRPr b="0" lang="en-US" sz="1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eacher Survey</a:t>
            </a:r>
            <a:endParaRPr b="1" lang="en-US" sz="4800" spc="-1" strike="noStrike">
              <a:solidFill>
                <a:srgbClr val="404040"/>
              </a:solidFill>
              <a:latin typeface="Candara"/>
            </a:endParaRPr>
          </a:p>
        </p:txBody>
      </p:sp>
      <p:sp>
        <p:nvSpPr>
          <p:cNvPr id="595" name=""/>
          <p:cNvSpPr txBox="1"/>
          <p:nvPr/>
        </p:nvSpPr>
        <p:spPr>
          <a:xfrm>
            <a:off x="1088640" y="1801800"/>
            <a:ext cx="7272360" cy="4324320"/>
          </a:xfrm>
          <a:prstGeom prst="rect">
            <a:avLst/>
          </a:prstGeom>
          <a:noFill/>
          <a:ln w="0">
            <a:noFill/>
          </a:ln>
        </p:spPr>
        <p:txBody>
          <a:bodyPr anchor="t">
            <a:normAutofit fontScale="88000"/>
          </a:bodyPr>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Multicultural Survey for Pre-service Teachers</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Please respond freely and anonymously to these open-ended statements. </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1- I am (prepared) (not prepared) to teach reading and language arts to students from diverse cultural and linguistic backgrounds because</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2- The following kinds of literacy-learning experiences are especially helpful to students from diverse cultural and linguistic backgrounds …..because</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3- I have participated in         (Write a number) filed experiences where I worked with students from diverse cultural and/or linguistic backgrounds. </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4- I have participated in          (Write a number) university related community experiences where I worked with students from diverse cultural and/or linguistic backgrounds.</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5- I need the following experiences to help prepare me to work with students from diverse cultural and linguistic backgrounds:</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 </a:t>
            </a:r>
            <a:r>
              <a:rPr b="0" lang="en-US" sz="1200" spc="-1" strike="noStrike">
                <a:solidFill>
                  <a:srgbClr val="404040"/>
                </a:solidFill>
                <a:latin typeface="Candara"/>
              </a:rPr>
              <a:t>6- The following literature is especially relevant for students of diverse cultural and linguistic backgrounds: because….</a:t>
            </a:r>
            <a:endParaRPr b="0" lang="en-US" sz="1200" spc="-1" strike="noStrike">
              <a:solidFill>
                <a:srgbClr val="404040"/>
              </a:solidFill>
              <a:latin typeface="Candara"/>
            </a:endParaRPr>
          </a:p>
          <a:p>
            <a:pPr marL="248400" indent="-24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7</a:t>
            </a:r>
            <a:endParaRPr b="0" lang="en-US" sz="1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eacher Survey Continued</a:t>
            </a:r>
            <a:endParaRPr b="1" lang="en-US" sz="4800" spc="-1" strike="noStrike">
              <a:solidFill>
                <a:srgbClr val="404040"/>
              </a:solidFill>
              <a:latin typeface="Candara"/>
            </a:endParaRPr>
          </a:p>
        </p:txBody>
      </p:sp>
      <p:sp>
        <p:nvSpPr>
          <p:cNvPr id="597"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 </a:t>
            </a:r>
            <a:r>
              <a:rPr b="0" lang="en-US" sz="2400" spc="-1" strike="noStrike">
                <a:solidFill>
                  <a:srgbClr val="404040"/>
                </a:solidFill>
                <a:latin typeface="Candara"/>
              </a:rPr>
              <a:t>	</a:t>
            </a:r>
            <a:r>
              <a:rPr b="0" lang="en-US" sz="1800" spc="-1" strike="noStrike">
                <a:solidFill>
                  <a:srgbClr val="404040"/>
                </a:solidFill>
                <a:latin typeface="Candara"/>
              </a:rPr>
              <a:t>7- I am familiar with the work of the following scholars who write about multicultural issues:</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8- The following writing activities are especially beneficial for students who speak variations of English: because….</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9- Name of your college /university </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Please write your comments below. How do you think that we, as literacy teacher educators, can enhance our abilities to meet the literacy learning needs of students from diverse cultural and linguistic backgrounds?</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able of Contents continued…</a:t>
            </a:r>
            <a:endParaRPr b="1" lang="en-US" sz="4800" spc="-1" strike="noStrike">
              <a:solidFill>
                <a:srgbClr val="404040"/>
              </a:solidFill>
              <a:latin typeface="Candara"/>
            </a:endParaRPr>
          </a:p>
        </p:txBody>
      </p:sp>
      <p:sp>
        <p:nvSpPr>
          <p:cNvPr id="549" name=""/>
          <p:cNvSpPr txBox="1"/>
          <p:nvPr/>
        </p:nvSpPr>
        <p:spPr>
          <a:xfrm>
            <a:off x="1088640" y="1801800"/>
            <a:ext cx="7272360" cy="4324320"/>
          </a:xfrm>
          <a:prstGeom prst="rect">
            <a:avLst/>
          </a:prstGeom>
          <a:noFill/>
          <a:ln w="0">
            <a:noFill/>
          </a:ln>
        </p:spPr>
        <p:txBody>
          <a:bodyPr anchor="t">
            <a:normAutofit fontScale="92000"/>
          </a:bodyPr>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uggested Strategies                               Slide # 12</a:t>
            </a:r>
            <a:endParaRPr b="0" lang="en-US" sz="2400" spc="-1" strike="noStrike">
              <a:solidFill>
                <a:srgbClr val="404040"/>
              </a:solidFill>
              <a:latin typeface="Candara"/>
            </a:endParaRPr>
          </a:p>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Alternative Strategies                              Slide # 13</a:t>
            </a:r>
            <a:endParaRPr b="0" lang="en-US" sz="2400" spc="-1" strike="noStrike">
              <a:solidFill>
                <a:srgbClr val="404040"/>
              </a:solidFill>
              <a:latin typeface="Candara"/>
            </a:endParaRPr>
          </a:p>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Method                                                         Slide # 14</a:t>
            </a:r>
            <a:endParaRPr b="0" lang="en-US" sz="2400" spc="-1" strike="noStrike">
              <a:solidFill>
                <a:srgbClr val="404040"/>
              </a:solidFill>
              <a:latin typeface="Candara"/>
            </a:endParaRPr>
          </a:p>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References                                                  Slide # 15- 22 </a:t>
            </a:r>
            <a:endParaRPr b="0" lang="en-US" sz="24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Index: Suggested Books                         Slide 23</a:t>
            </a:r>
            <a:endParaRPr b="0" lang="en-US" sz="24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ermission Slip/ Survey                           Slides 24-27</a:t>
            </a:r>
            <a:endParaRPr b="0" lang="en-US" sz="24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Introduction</a:t>
            </a:r>
            <a:endParaRPr b="1" lang="en-US" sz="4800" spc="-1" strike="noStrike">
              <a:solidFill>
                <a:srgbClr val="404040"/>
              </a:solidFill>
              <a:latin typeface="Candara"/>
            </a:endParaRPr>
          </a:p>
        </p:txBody>
      </p:sp>
      <p:sp>
        <p:nvSpPr>
          <p:cNvPr id="551" name=""/>
          <p:cNvSpPr txBox="1"/>
          <p:nvPr/>
        </p:nvSpPr>
        <p:spPr>
          <a:xfrm>
            <a:off x="1088640" y="1801800"/>
            <a:ext cx="7272360" cy="4324320"/>
          </a:xfrm>
          <a:prstGeom prst="rect">
            <a:avLst/>
          </a:prstGeom>
          <a:noFill/>
          <a:ln w="0">
            <a:noFill/>
          </a:ln>
        </p:spPr>
        <p:txBody>
          <a:bodyPr anchor="t">
            <a:normAutofit fontScale="94000"/>
          </a:bodyPr>
          <a:p>
            <a:pPr marL="265320" indent="-265320">
              <a:lnSpc>
                <a:spcPct val="9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From my observations most classroom education is done by a curriculum based on ethnocentric standards. Let me explain myself, when children are learning about world history; this is done by learning about the history of the United States, but the United States is not the whole world. When literacy blocks are being depicted in the curriculum most books read are those that students living in the U.S. understand, what does a student that just came from the Caribbean understand about snow, or certain holidays only celebrated here. By doing research on this particular topic I want to better understand the impact that multicultural and non-multicultural education has on the students literacy level and on the teachers teaching methods.</a:t>
            </a: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Statement of the Problem</a:t>
            </a:r>
            <a:endParaRPr b="1" lang="en-US" sz="4800" spc="-1" strike="noStrike">
              <a:solidFill>
                <a:srgbClr val="404040"/>
              </a:solidFill>
              <a:latin typeface="Candara"/>
            </a:endParaRPr>
          </a:p>
        </p:txBody>
      </p:sp>
      <p:sp>
        <p:nvSpPr>
          <p:cNvPr id="553" name=""/>
          <p:cNvSpPr txBox="1"/>
          <p:nvPr/>
        </p:nvSpPr>
        <p:spPr>
          <a:xfrm>
            <a:off x="1088640" y="1801800"/>
            <a:ext cx="7272360" cy="4324320"/>
          </a:xfrm>
          <a:prstGeom prst="rect">
            <a:avLst/>
          </a:prstGeom>
          <a:noFill/>
          <a:ln w="0">
            <a:noFill/>
          </a:ln>
        </p:spPr>
        <p:txBody>
          <a:bodyPr anchor="t">
            <a:normAutofit fontScale="95000"/>
          </a:bodyPr>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Literacy is a number one problem in the United States. According to the United Nations Development Programme Report 2009, the United States is number forty-five on the list and number twenty in rank. Based on the results of the standardized tests, new instructional methods both for the teacher and the students are needed. The United States is becoming a very diverse country as each day passes by and therefore we should adapt or structure the system to meet everyone’s needs in order to reach high literacy achievement rates.</a:t>
            </a:r>
            <a:endParaRPr b="0" lang="en-US" sz="2400" spc="-1" strike="noStrike">
              <a:solidFill>
                <a:srgbClr val="404040"/>
              </a:solidFill>
              <a:latin typeface="Candara"/>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ture Review: Theorists </a:t>
            </a:r>
            <a:endParaRPr b="1" lang="en-US" sz="4800" spc="-1" strike="noStrike">
              <a:solidFill>
                <a:srgbClr val="404040"/>
              </a:solidFill>
              <a:latin typeface="Candara"/>
            </a:endParaRPr>
          </a:p>
        </p:txBody>
      </p:sp>
      <p:sp>
        <p:nvSpPr>
          <p:cNvPr id="555" name=""/>
          <p:cNvSpPr txBox="1"/>
          <p:nvPr/>
        </p:nvSpPr>
        <p:spPr>
          <a:xfrm>
            <a:off x="1088640" y="1801800"/>
            <a:ext cx="7272360" cy="4324320"/>
          </a:xfrm>
          <a:prstGeom prst="rect">
            <a:avLst/>
          </a:prstGeom>
          <a:noFill/>
          <a:ln w="0">
            <a:noFill/>
          </a:ln>
        </p:spPr>
        <p:txBody>
          <a:bodyPr anchor="t">
            <a:normAutofit fontScale="95000"/>
          </a:bodyPr>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04040"/>
                </a:solidFill>
                <a:latin typeface="Candara"/>
              </a:rPr>
              <a:t>We need to stop the dishonesty and ineptitude of policy makers whose prescriptions for change are based on evidence-free ideological convictions (Nieto &amp; Bode, 2010; Hirsch, 1988).</a:t>
            </a:r>
            <a:endParaRPr b="0" lang="en-US" sz="21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04040"/>
                </a:solidFill>
                <a:latin typeface="Candara"/>
              </a:rPr>
              <a:t>Multicultural literature plays a significant role in the development of children's cross-cultural understanding (Harper &amp; Brand, 2010; Hinton &amp; Berry, 2004).  </a:t>
            </a:r>
            <a:endParaRPr b="0" lang="en-US" sz="21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04040"/>
                </a:solidFill>
                <a:latin typeface="Candara"/>
              </a:rPr>
              <a:t>As human beings evolve, the network of understanding becomes more and more complex therefore we need to educate our children with an integration of ethnic texture (Dooley, 2008; Lim, 2004; Randencinch, 1998)</a:t>
            </a:r>
            <a:endParaRPr b="0" lang="en-US" sz="21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04040"/>
                </a:solidFill>
                <a:latin typeface="Candara"/>
              </a:rPr>
              <a:t>Literature Review: Pro Literacy</a:t>
            </a:r>
            <a:endParaRPr b="1" lang="en-US" sz="4300" spc="-1" strike="noStrike">
              <a:solidFill>
                <a:srgbClr val="404040"/>
              </a:solidFill>
              <a:latin typeface="Candara"/>
            </a:endParaRPr>
          </a:p>
        </p:txBody>
      </p:sp>
      <p:sp>
        <p:nvSpPr>
          <p:cNvPr id="557" name=""/>
          <p:cNvSpPr txBox="1"/>
          <p:nvPr/>
        </p:nvSpPr>
        <p:spPr>
          <a:xfrm>
            <a:off x="1088640" y="1801800"/>
            <a:ext cx="7272360" cy="4324320"/>
          </a:xfrm>
          <a:prstGeom prst="rect">
            <a:avLst/>
          </a:prstGeom>
          <a:noFill/>
          <a:ln w="0">
            <a:noFill/>
          </a:ln>
        </p:spPr>
        <p:txBody>
          <a:bodyPr anchor="t">
            <a:normAutofit fontScale="95000"/>
          </a:bodyPr>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Multicultural literature books make connections to the lives of young children. It reaffirms their cultural identity by seeing themselves and their experiences represented in the books. It gives them a sense of pride and helps them connect and speak of issues that are salient and familiar to them (Canen, 2003; Harper &amp; Brand, 2010; Hinton &amp; Berry, 2004/2005; Locke &amp; Cleary, 2011; Smolen, Collins, &amp; Still, 2008; St.Amour, 2003). </a:t>
            </a:r>
            <a:endParaRPr b="0" lang="en-US" sz="13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 </a:t>
            </a:r>
            <a:r>
              <a:rPr b="0" lang="en-US" sz="1300" spc="-1" strike="noStrike">
                <a:solidFill>
                  <a:srgbClr val="404040"/>
                </a:solidFill>
                <a:latin typeface="Candara"/>
              </a:rPr>
              <a:t>Multicultural literacy books can be a mirror or a window; reflecting a child’s own characteristics and validating familiar cultures and experiences (Harper &amp; Brand, 2010; St. Amour, 2003).</a:t>
            </a:r>
            <a:endParaRPr b="0" lang="en-US" sz="13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Multicultural literature teaches student about the world, its peoples and cultures. It encourages students to bring their own cultures and languages into the classroom. Culturally responsive instruction strengthens students’ connectedness with schools, which result in a reduction of behavior problem. It fosters children’s understanding of and respect for their own cultures, as well as the cultures of others (Barksdale, Richards, &amp; Fisher, 2002; Harper &amp; Brand, 2010; May, 2011; Modla &amp;Wake, 2008; Randencinch, 1998).</a:t>
            </a:r>
            <a:endParaRPr b="0" lang="en-US" sz="13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 </a:t>
            </a:r>
            <a:r>
              <a:rPr b="0" lang="en-US" sz="1400" spc="-1" strike="noStrike">
                <a:solidFill>
                  <a:srgbClr val="404040"/>
                </a:solidFill>
                <a:latin typeface="Candara"/>
              </a:rPr>
              <a:t>Multicultural books promote positive attitudes towards literacy and helps improve reading comprehension, writing quality and vocabulary. It is essential for academic advancement of all students; particularly for at risk students (Harper &amp; Brand, 2010; Schaedel &amp; Lazarowitz, 2005/2006; Smolen, Collins, &amp; Still, 2008).</a:t>
            </a:r>
            <a:endParaRPr b="0" lang="en-US" sz="1400" spc="-1" strike="noStrike">
              <a:solidFill>
                <a:srgbClr val="404040"/>
              </a:solidFill>
              <a:latin typeface="Candara"/>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cy Review: Pro Literacy Continued</a:t>
            </a:r>
            <a:endParaRPr b="1" lang="en-US" sz="4800" spc="-1" strike="noStrike">
              <a:solidFill>
                <a:srgbClr val="404040"/>
              </a:solidFill>
              <a:latin typeface="Candara"/>
            </a:endParaRPr>
          </a:p>
        </p:txBody>
      </p:sp>
      <p:sp>
        <p:nvSpPr>
          <p:cNvPr id="559" name=""/>
          <p:cNvSpPr txBox="1"/>
          <p:nvPr/>
        </p:nvSpPr>
        <p:spPr>
          <a:xfrm>
            <a:off x="1088640" y="1801800"/>
            <a:ext cx="7272360" cy="4324320"/>
          </a:xfrm>
          <a:prstGeom prst="rect">
            <a:avLst/>
          </a:prstGeom>
          <a:noFill/>
          <a:ln w="0">
            <a:noFill/>
          </a:ln>
        </p:spPr>
        <p:txBody>
          <a:bodyPr anchor="t">
            <a:normAutofit fontScale="80000"/>
          </a:bodyPr>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Multicultural literacy challenges the take for granted messages and meanings attached to the world around us. Students learn to challenge assumptions, reject racism, and other forms of discrimination, to broaden their belief systems, and to develop more complex understanding of literacy, diversity and schooling. This produces learners who have competencies in and can operate successfully in two different cultures (Bruna, 2007; Gibson, 1984; Modla &amp; Wake; St. Amour, 2003).</a:t>
            </a:r>
            <a:endParaRPr b="0" lang="en-US" sz="13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Multicultural literature affirms cultural and linguistic identity and it establishes a greater understanding of themselves and others (Canen 2003; Harper &amp; Brand, 2010).</a:t>
            </a:r>
            <a:endParaRPr b="0" lang="en-US" sz="13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Rich language is embedded within multicultural literature; they are exposed to new vocabulary. It is characterized by captivating illusive techniques and authentic stories within all genres (Ernst &amp; Mathis, 2007; Harper &amp; Brand, 2010).</a:t>
            </a:r>
            <a:endParaRPr b="0" lang="en-US" sz="13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 </a:t>
            </a:r>
            <a:r>
              <a:rPr b="0" lang="en-US" sz="1300" spc="-1" strike="noStrike">
                <a:solidFill>
                  <a:srgbClr val="404040"/>
                </a:solidFill>
                <a:latin typeface="Candara"/>
              </a:rPr>
              <a:t>Greater variety in literature makes it more likely that all children will have access to narratives that represent their various backgrounds as well as enrich and enlarge cultural awareness. With understanding of different cultures will come respect for differences, tolerance for conflicting beliefs, and the recognition of the common characteristics that all cultures share (Eldering, 1996; Gibson, 1984; Norton, 1990; Schaedel &amp; Lazarowitz, 2005/2006; Smolen, Collins, &amp; Still, 2008; St. Amour, 2003). </a:t>
            </a:r>
            <a:endParaRPr b="0" lang="en-US" sz="13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  </a:t>
            </a:r>
            <a:endParaRPr b="0" lang="en-US" sz="22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cy Review: Con Literacy</a:t>
            </a:r>
            <a:endParaRPr b="1" lang="en-US" sz="4800" spc="-1" strike="noStrike">
              <a:solidFill>
                <a:srgbClr val="404040"/>
              </a:solidFill>
              <a:latin typeface="Candara"/>
            </a:endParaRPr>
          </a:p>
        </p:txBody>
      </p:sp>
      <p:sp>
        <p:nvSpPr>
          <p:cNvPr id="561"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Differences between home and school cultures can result in misunderstandings, referred to as “cultural discontinuity” and cultural difference.  This mismatch between school and home literacy practices creates an inability of students to produce school based literacy output (Modla &amp; Wake; Randencich, 1998).</a:t>
            </a:r>
            <a:endParaRPr b="0" lang="en-US" sz="15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 </a:t>
            </a:r>
            <a:r>
              <a:rPr b="0" lang="en-US" sz="1500" spc="-1" strike="noStrike">
                <a:solidFill>
                  <a:srgbClr val="404040"/>
                </a:solidFill>
                <a:latin typeface="Candara"/>
              </a:rPr>
              <a:t>Multicultural inclusions in schools and classrooms collections of books and media may be limited to folklore, which when used alone can reinforce stereotypes, or pay scant attention to multicultural literature (Hinton &amp; Berry, 2004; Randencich, 1998).</a:t>
            </a:r>
            <a:endParaRPr b="0" lang="en-US" sz="15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 </a:t>
            </a:r>
            <a:r>
              <a:rPr b="0" lang="en-US" sz="1500" spc="-1" strike="noStrike">
                <a:solidFill>
                  <a:srgbClr val="404040"/>
                </a:solidFill>
                <a:latin typeface="Candara"/>
              </a:rPr>
              <a:t>Students who do not see their culture reflected in the literature they read may believe that they have no value and little to no importance in society and in school (Canen, 2003; Harper &amp; Brand, 2010; Hinton &amp; Berry, 2004; St. Amour, 2003).  </a:t>
            </a:r>
            <a:endParaRPr b="0" lang="en-US" sz="15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05:55:08Z</dcterms:created>
  <dc:creator>Ramona  Fabian</dc:creator>
  <dc:description/>
  <dc:language>en-US</dc:language>
  <cp:lastModifiedBy>Ramona  Fabian</cp:lastModifiedBy>
  <dcterms:modified xsi:type="dcterms:W3CDTF">2011-12-13T06:10:28Z</dcterms:modified>
  <cp:revision>12</cp:revision>
  <dc:subject/>
  <dc:title>The Effects of Multicultural Education on Literacy</dc:title>
</cp:coreProperties>
</file>